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7FD-5C01-43AC-9FDC-60A030E5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D7D-E6F5-430C-BAB1-0A36728E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584-E6A7-4826-BD65-B9B718A0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0DF-7AAF-45F2-BE8B-2D372B98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DD18E-92CE-48B1-9F9F-77EEDF89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AC645-8A51-4C28-A20F-F2C7FFCF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F9AD6-524B-4781-A1B8-DCD6BDDC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A8E6B-0744-4F94-AE29-DA0C3242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EA748-CB83-4840-A0EF-418CE209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4959A-E86D-4635-9F10-FFE26F6E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9C25C-B40B-452D-85A7-CDD0A8BD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5A6-3ABF-47AD-9027-85981517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CDD9C-A0A2-4B1D-A234-1DCDA95B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78C4A-B55E-4464-8FD2-94006401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7FA93-51BA-4BE4-AF55-5E674817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509D0-7EDE-4135-883B-CA44786A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413D2-052B-4A88-88DE-DC18CFB4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4B0-9D13-4764-8BB4-B623B972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312-6318-40CF-9F4D-379471AC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D69-F178-49AE-A020-B6A263C4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F5A-CA92-425D-95F0-292E5A83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051-301A-4AB2-917E-66596F80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D53-2FBA-48FE-B3F0-5736EF0C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DBD-C3AA-4CA5-92E3-448AF3C3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6BC1-0E4C-481A-B84A-5D86EF284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0B15-2022-4F98-BC61-9416DB5674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ssion 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lk Sho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04920" y="6278400"/>
            <a:ext cx="259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457200" y="22096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28600" y="6248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5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" y="2286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UES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 Alcoholic and Drug Addict (DAVI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vid’s Girlfriend (CECIL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 of Teenager who was a Victim of a Drunk Driving Accident (JESSICA/JI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vering Drug Addict/Alcoholic (YVONNE/RICHAR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U.I (Driving Under the Influence) inmate convicted of manslaughter (EDDY/BONN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 friend of someone who died of an accidental overdose (FRANK/LUC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Leah Meza</cp:lastModifiedBy>
  <dcterms:modified xsi:type="dcterms:W3CDTF">2009-11-24T18:37:01Z</dcterms:modified>
  <cp:revision>19</cp:revision>
  <dc:subject/>
  <dc:title>Project TND  (Project Towards No Drug Abuse)</dc:title>
</cp:coreProperties>
</file>